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4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4916-81C4-4B95-AB09-9A4982A88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FFEA-82E8-4898-94F1-1B787B5C9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DD03-F306-4BA3-99BE-99CAE56AD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&gt;12.5 or &lt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causes visible destruction of, or irreversible alterations in, living tissue by chemical action at the point of contact.  This term does not refer to action on inanimate surfa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material that will corrode steel at a rate of 0.25 in.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53CA-82D9-4494-9E65-9F14810CD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6071-95F6-4782-BA8C-A4A81EF97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7172-D138-446C-8468-37E78669C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AB5F-11DA-4F8E-A0C2-63222FEF5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61B0-F9E4-4C35-8A23-43E091C30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7DA2-96B4-44FB-B9E4-83BA8D180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reacts with water to release gas that is either flammable or presents a health ha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tassium me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9B59-1B7A-42D3-A64A-260D459A8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ECF0-8627-428F-A381-72C1AB250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9977-8C2A-40D3-8409-76433EA38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77BD-903B-4483-BB2A-B4999D8D5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6D41-4473-4339-805B-4231C2619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159C-974F-4824-9FE2-01A87AF79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7445-9F16-4B15-B229-9AE7DC92C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64AA-B6E1-4048-B549-30124450A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8731-D216-4970-B866-215244623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7D9F-7170-4CC2-AF0E-CB2B0AD44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7135-ECD3-462A-851D-601007FC9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5D6E-1BD9-4CEC-BCB1-5E7689F50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8816-0482-47FD-A7B7-E1501B691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A800-80E8-4833-B1DE-CFBDAF50D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F530-2478-4B4B-8E1A-189F2B791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85DD-4E2A-458C-A229-29C3F99C8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55E0-7BCF-4AD7-AC7F-FA61EC23C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476B-4BB6-460F-9A9F-43B24A710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32B7-D98D-46DA-992B-6A6101882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936C-7AC9-49D8-8A22-44E099160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D995-2B35-4E67-8047-BDA46CE23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4463-32EA-4C0F-AECF-FC8AEDF5C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4C9D-1D5E-4EF5-A1FF-E4878CB90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5490-238F-4DEF-9636-90E97E218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A608-CD71-4AFD-9246-572C5147B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shpoint below 2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ambient temp. and pres. forms a range of flammable mixtures wider than 12% by volume regardless of 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ble to cause fire through friction, absorption of moisture, spontaneous chemical change, or which can be ignited readily burning at a rate of greater than 1/10 in. per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27DB-F19E-4356-8AA9-22126917E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36128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6"/>
          <p:cNvGrpSpPr/>
          <p:nvPr/>
        </p:nvGrpSpPr>
        <p:grpSpPr>
          <a:xfrm>
            <a:off x="1576440" y="1631880"/>
            <a:ext cx="7567560" cy="209520"/>
            <a:chOff x="1576440" y="1631880"/>
            <a:chExt cx="7567560" cy="209520"/>
          </a:xfrm>
        </p:grpSpPr>
        <p:grpSp>
          <p:nvGrpSpPr>
            <p:cNvPr id="6" name="Group 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7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" name="Line 22"/>
            <p:cNvSpPr/>
            <p:nvPr/>
          </p:nvSpPr>
          <p:spPr>
            <a:xfrm>
              <a:off x="1585800" y="180036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23"/>
            <p:cNvSpPr/>
            <p:nvPr/>
          </p:nvSpPr>
          <p:spPr>
            <a:xfrm>
              <a:off x="1587600" y="175248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4"/>
            <p:cNvSpPr/>
            <p:nvPr/>
          </p:nvSpPr>
          <p:spPr>
            <a:xfrm>
              <a:off x="1576440" y="165276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Picture 28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1576440" y="3200400"/>
            <a:ext cx="7567560" cy="209520"/>
            <a:chOff x="1576440" y="3200400"/>
            <a:chExt cx="7567560" cy="209520"/>
          </a:xfrm>
        </p:grpSpPr>
        <p:grpSp>
          <p:nvGrpSpPr>
            <p:cNvPr id="55" name="Group 41"/>
            <p:cNvGrpSpPr/>
            <p:nvPr/>
          </p:nvGrpSpPr>
          <p:grpSpPr>
            <a:xfrm>
              <a:off x="1576440" y="3200400"/>
              <a:ext cx="7566120" cy="189000"/>
              <a:chOff x="1576440" y="3200400"/>
              <a:chExt cx="7566120" cy="189000"/>
            </a:xfrm>
          </p:grpSpPr>
          <p:sp>
            <p:nvSpPr>
              <p:cNvPr id="56" name="Rectangle 42"/>
              <p:cNvSpPr/>
              <p:nvPr/>
            </p:nvSpPr>
            <p:spPr>
              <a:xfrm>
                <a:off x="1581120" y="321156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43"/>
              <p:cNvSpPr/>
              <p:nvPr/>
            </p:nvSpPr>
            <p:spPr>
              <a:xfrm>
                <a:off x="1585800" y="33861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44"/>
              <p:cNvSpPr/>
              <p:nvPr/>
            </p:nvSpPr>
            <p:spPr>
              <a:xfrm>
                <a:off x="1585800" y="334800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45"/>
              <p:cNvSpPr/>
              <p:nvPr/>
            </p:nvSpPr>
            <p:spPr>
              <a:xfrm>
                <a:off x="1585800" y="330048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46"/>
              <p:cNvSpPr/>
              <p:nvPr/>
            </p:nvSpPr>
            <p:spPr>
              <a:xfrm>
                <a:off x="1585800" y="324648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47"/>
              <p:cNvSpPr/>
              <p:nvPr/>
            </p:nvSpPr>
            <p:spPr>
              <a:xfrm>
                <a:off x="1576440" y="320040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Line 48"/>
            <p:cNvSpPr/>
            <p:nvPr/>
          </p:nvSpPr>
          <p:spPr>
            <a:xfrm>
              <a:off x="1585800" y="336888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49"/>
            <p:cNvSpPr/>
            <p:nvPr/>
          </p:nvSpPr>
          <p:spPr>
            <a:xfrm>
              <a:off x="1587600" y="332100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50"/>
            <p:cNvSpPr/>
            <p:nvPr/>
          </p:nvSpPr>
          <p:spPr>
            <a:xfrm>
              <a:off x="1576440" y="322128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" name="Picture 53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7238520" y="640080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hemlabs.uoregon.edu/Safety/map/nfpadiamond.map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lpi.com/msds/ref/acid.html" TargetMode="External"/><Relationship Id="rId2" Type="http://schemas.openxmlformats.org/officeDocument/2006/relationships/hyperlink" Target="http://www.ilpi.com/msds/ref/corrosive.html" TargetMode="External"/><Relationship Id="rId3" Type="http://schemas.openxmlformats.org/officeDocument/2006/relationships/hyperlink" Target="http://www.ilpi.com/msds/ref/ph.html" TargetMode="External"/><Relationship Id="rId4" Type="http://schemas.openxmlformats.org/officeDocument/2006/relationships/hyperlink" Target="http://www.ilpi.com/msds/ref/base.html" TargetMode="External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regonstate.edu/research/Images/hazbio.gif&amp;imgrefurl=http://oregonstate.edu/research/1old/News/04sumnews.html&amp;h=487&amp;w=512&amp;sz=20&amp;tbnid=FltTi8FN-Ad_mM:&amp;tbnh=125&amp;tbnw=131&amp;prev=/images%3Fq%3Dbiohazard%2Bsymbol&amp;start=2&amp;ei=JvykRbK7PJC4iwHQia3vBQ&amp;sig2=t0XsrG4VlVXycbDfZtAbXg&amp;sa=X&amp;oi=images&amp;ct=image&amp;cd=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teachnet.ie/dkeenahan/2004/Images/Radiation%2520symbol%25202%2520J.jpg&amp;imgrefurl=http://www.teachnet.ie/dkeenahan/2004/page41.html&amp;h=247&amp;w=264&amp;sz=9&amp;tbnid=q58_UDK7Pu2bmM:&amp;tbnh=105&amp;tbnw=112&amp;prev=/images%3Fq%3Dradiation%2Bsymbol&amp;start=3&amp;ei=TPykRbn-FZDYigHXmYDlBQ&amp;sig2=GYgQdEHQ1k9KbQmSwgUWGA&amp;sa=X&amp;oi=images&amp;ct=image&amp;cd=3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google.com/imgres?imgurl=http://www.globescientific.com/globe_needle_holder.gif&amp;imgrefurl=http://www.globescientific.com/cpage28a-needle.html&amp;h=941&amp;w=1456&amp;sz=508&amp;hl=en&amp;start=1&amp;tbnid=kGBaDivi3wY9iM:&amp;tbnh=97&amp;tbnw=150&amp;prev=/images%3Fq%3Dneedle%26svnum%3D10%26hl%3Den%26lr%3D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com/imgres?imgurl=http://www.worldofmolecules.com/solvents/benzene.gif&amp;imgrefurl=http://www.worldofmolecules.com/solvents/benzene.htm&amp;h=242&amp;w=251&amp;sz=6&amp;hl=en&amp;start=1&amp;tbnid=lwc48qHliqSHtM:&amp;tbnh=107&amp;tbnw=111&amp;prev=/images%3Fq%3Dbenzene%26svnum%3D10%26hl%3Den%26lr%3D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google.com/imgres?imgurl=http://www.artchive.com/artchive/g/goodman/goodman_night_burn.jpg&amp;imgrefurl=http://artchive.com/artchive/G/goodman/goodman_night_burn.jpg.html&amp;h=835&amp;w=630&amp;sz=80&amp;hl=en&amp;sig2=g0CPj7-ox-t5_T8wxyb9ag&amp;start=3&amp;tbnid=nyG46gQzNWIVmM:&amp;tbnh=144&amp;tbnw=109&amp;ei=N_2kRebsCYvIiwG1kun8BQ&amp;prev=/images%3Fq%3Dburn%26svnum%3D10%26hl%3Den%26lr%3D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images.google.com/imgres?imgurl=http://oregonstate.edu/~brookhac/uploaded_images/tripping-729005.jpg&amp;imgrefurl=http://oregonstate.edu/~brookhac/2005_12_01_theblueflower_archive.html&amp;h=285&amp;w=400&amp;sz=12&amp;hl=en&amp;sig2=X1fgOb4GRvwLzC4K1ApKpw&amp;start=1&amp;tbnid=vX4HxNFeWQox7M:&amp;tbnh=88&amp;tbnw=124&amp;ei=U_2kRZHkJc24igH9pYjgBQ&amp;prev=/images%3Fq%3Dtripping%26svnum%3D10%26hl%3Den%26lr%3D" TargetMode="External"/><Relationship Id="rId13" Type="http://schemas.openxmlformats.org/officeDocument/2006/relationships/image" Target="../media/image10.jpeg"/><Relationship Id="rId14" Type="http://schemas.openxmlformats.org/officeDocument/2006/relationships/hyperlink" Target="http://images.google.com/imgres?imgurl=http://offices.colgate.edu/chemmgt/images/gascylinders1.jpg&amp;imgrefurl=http://offices.colgate.edu/chemmgt/picturegallery.htm&amp;h=480&amp;w=640&amp;sz=32&amp;hl=en&amp;start=13&amp;tbnid=7kEDXWSgmm0Q0M:&amp;tbnh=103&amp;tbnw=137&amp;prev=/images%3Fq%3Dgas%2Bcylinder%26svnum%3D10%26hl%3Den%26lr%3D%26sa%3DX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m/imgres?imgurl=http://www.microbiol.unimelb.edu.au/staff/ehs/hazdiamonds.images/corrosive.gif&amp;imgrefurl=http://www.microbiol.unimelb.edu.au/staff/ehs/hazdiamonds.html&amp;h=211&amp;w=210&amp;sz=13&amp;hl=en&amp;sig2=VscSB2kzDMlu7JZWtTHP5w&amp;start=6&amp;tbnid=9nMROHk6-OdllM:&amp;tbnh=106&amp;tbnw=105&amp;ei=BP6kRfxvv8aLAfOEmfwF&amp;prev=/images%3Fq%3Dchemical%2Bhazard%26svnum%3D10%26hl%3Den%26lr%3D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images.google.com/imgres?imgurl=http://images.encarta.msn.com/xrefmedia/sharemed/targets/images/pho/t014/T014510A.jpg&amp;imgrefurl=http://encarta.msn.com/media_461517901_761563758_-1_1/Liquid_Nitrogen.html&amp;h=336&amp;w=500&amp;sz=19&amp;hl=en&amp;start=4&amp;tbnid=12tTu4JRrYuoCM:&amp;tbnh=87&amp;tbnw=130&amp;prev=/images%3Fq%3Dliquid%2Bnitrogen%26svnum%3D10%26hl%3Den%26lr%3D" TargetMode="External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az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109-0979_IMG"/>
          <p:cNvPicPr/>
          <p:nvPr/>
        </p:nvPicPr>
        <p:blipFill>
          <a:blip r:embed="rId1"/>
          <a:stretch/>
        </p:blipFill>
        <p:spPr>
          <a:xfrm>
            <a:off x="3505320" y="182880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&gt;12.5 or 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aterial that will corrode steel at a rate of 0.25 in. pe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visible destruction of liv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oxygenlabel"/>
          <p:cNvPicPr/>
          <p:nvPr/>
        </p:nvPicPr>
        <p:blipFill>
          <a:blip r:embed="rId1"/>
          <a:stretch/>
        </p:blipFill>
        <p:spPr>
          <a:xfrm>
            <a:off x="3657600" y="1752480"/>
            <a:ext cx="3008160" cy="4876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initiates or promotes combustion in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erial that may, generally by yielding oxygen, cause or enhance the combustion of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ower the ignition temperature and flash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toxic-chemical"/>
          <p:cNvPicPr/>
          <p:nvPr/>
        </p:nvPicPr>
        <p:blipFill>
          <a:blip r:embed="rId1"/>
          <a:stretch/>
        </p:blipFill>
        <p:spPr>
          <a:xfrm>
            <a:off x="3429000" y="1981080"/>
            <a:ext cx="3468600" cy="4648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50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toxics below 5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reacts with water to release gas that is either flammable or presents a health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-- Chem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V/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OSH pocket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bottle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IMG_0066_13_1"/>
          <p:cNvPicPr/>
          <p:nvPr/>
        </p:nvPicPr>
        <p:blipFill>
          <a:blip r:embed="rId1"/>
          <a:stretch/>
        </p:blipFill>
        <p:spPr>
          <a:xfrm>
            <a:off x="2438280" y="1981080"/>
            <a:ext cx="5257800" cy="3944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n……and……N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iosafety photo"/>
          <p:cNvPicPr/>
          <p:nvPr/>
        </p:nvPicPr>
        <p:blipFill>
          <a:blip r:embed="rId1"/>
          <a:stretch/>
        </p:blipFill>
        <p:spPr>
          <a:xfrm>
            <a:off x="4038480" y="2895480"/>
            <a:ext cx="3962520" cy="2808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FPA Diamo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38862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ections colored blue, red, yellow an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s are rated on a scale of 5, 4 being hig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ed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t for fire fighters and emergency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area used for spec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[Hazard Diamond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5120"/>
            <a:ext cx="1855800" cy="185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Symb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7359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ndicates that the material is 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a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orrosive mater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has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w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n alkaline material, also called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b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ese caustic materials have a pH great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 material that is corrosive (it could be either an acid or a ba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a another symbol used for corros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kull and crossbones is used to denote a poison or highly toxic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active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s an explosive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orrosive, hand burned by acid"/>
          <p:cNvPicPr/>
          <p:nvPr/>
        </p:nvPicPr>
        <p:blipFill>
          <a:blip r:embed="rId5"/>
          <a:stretch/>
        </p:blipFill>
        <p:spPr>
          <a:xfrm>
            <a:off x="1905120" y="3429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poison, skull and crossbones"/>
          <p:cNvPicPr/>
          <p:nvPr/>
        </p:nvPicPr>
        <p:blipFill>
          <a:blip r:embed="rId6"/>
          <a:stretch/>
        </p:blipFill>
        <p:spPr>
          <a:xfrm>
            <a:off x="1905120" y="426708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Radioactive"/>
          <p:cNvPicPr/>
          <p:nvPr/>
        </p:nvPicPr>
        <p:blipFill>
          <a:blip r:embed="rId7"/>
          <a:stretch/>
        </p:blipFill>
        <p:spPr>
          <a:xfrm>
            <a:off x="1905120" y="5105520"/>
            <a:ext cx="761760" cy="571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Explosive"/>
          <p:cNvPicPr/>
          <p:nvPr/>
        </p:nvPicPr>
        <p:blipFill>
          <a:blip r:embed="rId8"/>
          <a:stretch/>
        </p:blipFill>
        <p:spPr>
          <a:xfrm>
            <a:off x="1905120" y="5943600"/>
            <a:ext cx="761760" cy="571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7760" y="609588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MSDS for the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IMG_0198_1_1"/>
          <p:cNvPicPr/>
          <p:nvPr/>
        </p:nvPicPr>
        <p:blipFill>
          <a:blip r:embed="rId1"/>
          <a:stretch/>
        </p:blipFill>
        <p:spPr>
          <a:xfrm>
            <a:off x="2590920" y="1905120"/>
            <a:ext cx="5560920" cy="4170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Health and Safet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IMG_5206_7_1"/>
          <p:cNvPicPr/>
          <p:nvPr/>
        </p:nvPicPr>
        <p:blipFill>
          <a:blip r:embed="rId1"/>
          <a:stretch/>
        </p:blipFill>
        <p:spPr>
          <a:xfrm>
            <a:off x="1905120" y="198108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69040" y="1981080"/>
            <a:ext cx="373680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01-0165_IMG"/>
          <p:cNvPicPr/>
          <p:nvPr/>
        </p:nvPicPr>
        <p:blipFill>
          <a:blip r:embed="rId1"/>
          <a:stretch/>
        </p:blipFill>
        <p:spPr>
          <a:xfrm>
            <a:off x="3657600" y="2133720"/>
            <a:ext cx="2438280" cy="32511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Aldrich"/>
          <p:cNvPicPr/>
          <p:nvPr/>
        </p:nvPicPr>
        <p:blipFill>
          <a:blip r:embed="rId2"/>
          <a:stretch/>
        </p:blipFill>
        <p:spPr>
          <a:xfrm>
            <a:off x="1371600" y="3581280"/>
            <a:ext cx="2438280" cy="587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7760" y="6210000"/>
            <a:ext cx="76262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igma"/>
          <p:cNvPicPr/>
          <p:nvPr/>
        </p:nvPicPr>
        <p:blipFill>
          <a:blip r:embed="rId3"/>
          <a:stretch/>
        </p:blipFill>
        <p:spPr>
          <a:xfrm>
            <a:off x="1752480" y="2057400"/>
            <a:ext cx="1981440" cy="476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supelco1"/>
          <p:cNvPicPr/>
          <p:nvPr/>
        </p:nvPicPr>
        <p:blipFill>
          <a:blip r:embed="rId4"/>
          <a:stretch/>
        </p:blipFill>
        <p:spPr>
          <a:xfrm>
            <a:off x="6248520" y="3352680"/>
            <a:ext cx="190476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r1_c1"/>
          <p:cNvPicPr/>
          <p:nvPr/>
        </p:nvPicPr>
        <p:blipFill>
          <a:blip r:embed="rId5"/>
          <a:srcRect l="14014" t="0" r="49062" b="9599"/>
          <a:stretch/>
        </p:blipFill>
        <p:spPr>
          <a:xfrm>
            <a:off x="7315200" y="2362320"/>
            <a:ext cx="963720" cy="860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Mallinckrodt logo"/>
          <p:cNvPicPr/>
          <p:nvPr/>
        </p:nvPicPr>
        <p:blipFill>
          <a:blip r:embed="rId6"/>
          <a:stretch/>
        </p:blipFill>
        <p:spPr>
          <a:xfrm>
            <a:off x="6248520" y="4191120"/>
            <a:ext cx="2361960" cy="549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header_left"/>
          <p:cNvPicPr/>
          <p:nvPr/>
        </p:nvPicPr>
        <p:blipFill>
          <a:blip r:embed="rId7"/>
          <a:stretch/>
        </p:blipFill>
        <p:spPr>
          <a:xfrm>
            <a:off x="5334120" y="1981080"/>
            <a:ext cx="1733400" cy="750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biorad_logo"/>
          <p:cNvPicPr/>
          <p:nvPr/>
        </p:nvPicPr>
        <p:blipFill>
          <a:blip r:embed="rId8"/>
          <a:srcRect l="0" t="0" r="0" b="24008"/>
          <a:stretch/>
        </p:blipFill>
        <p:spPr>
          <a:xfrm>
            <a:off x="6019920" y="5181480"/>
            <a:ext cx="1981080" cy="61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Oxoid - Dedicated to Microbiology"/>
          <p:cNvPicPr/>
          <p:nvPr/>
        </p:nvPicPr>
        <p:blipFill>
          <a:blip r:embed="rId9"/>
          <a:srcRect l="12799" t="0" r="12799" b="30976"/>
          <a:stretch/>
        </p:blipFill>
        <p:spPr>
          <a:xfrm>
            <a:off x="1981080" y="5105520"/>
            <a:ext cx="1828800" cy="701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3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58672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fume 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IMG_0201_4_1"/>
          <p:cNvPicPr/>
          <p:nvPr/>
        </p:nvPicPr>
        <p:blipFill>
          <a:blip r:embed="rId1"/>
          <a:stretch/>
        </p:blipFill>
        <p:spPr>
          <a:xfrm>
            <a:off x="2666880" y="19051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IMG_0208_11_1"/>
          <p:cNvPicPr/>
          <p:nvPr/>
        </p:nvPicPr>
        <p:blipFill>
          <a:blip r:embed="rId1"/>
          <a:stretch/>
        </p:blipFill>
        <p:spPr>
          <a:xfrm>
            <a:off x="3657600" y="251460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55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r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MG_0202_5_1"/>
          <p:cNvPicPr/>
          <p:nvPr/>
        </p:nvPicPr>
        <p:blipFill>
          <a:blip r:embed="rId1"/>
          <a:stretch/>
        </p:blipFill>
        <p:spPr>
          <a:xfrm>
            <a:off x="2895480" y="262908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IMG_0209_12_1"/>
          <p:cNvPicPr/>
          <p:nvPr/>
        </p:nvPicPr>
        <p:blipFill>
          <a:blip r:embed="rId1"/>
          <a:stretch/>
        </p:blipFill>
        <p:spPr>
          <a:xfrm>
            <a:off x="3429000" y="1981080"/>
            <a:ext cx="348624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IMG_0205_8_1"/>
          <p:cNvPicPr/>
          <p:nvPr/>
        </p:nvPicPr>
        <p:blipFill>
          <a:blip r:embed="rId1"/>
          <a:stretch/>
        </p:blipFill>
        <p:spPr>
          <a:xfrm>
            <a:off x="2209680" y="19810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we learn to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o identify and control workplac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boratory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osure Control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of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ygiene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ul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 and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IMG_0008_2_8_1"/>
          <p:cNvPicPr/>
          <p:nvPr/>
        </p:nvPicPr>
        <p:blipFill>
          <a:blip r:embed="rId1"/>
          <a:stretch/>
        </p:blipFill>
        <p:spPr>
          <a:xfrm>
            <a:off x="1600200" y="19051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ron"/>
          <p:cNvPicPr/>
          <p:nvPr/>
        </p:nvPicPr>
        <p:blipFill>
          <a:blip r:embed="rId2"/>
          <a:stretch/>
        </p:blipFill>
        <p:spPr>
          <a:xfrm>
            <a:off x="6324480" y="1905120"/>
            <a:ext cx="2684520" cy="3124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IMG_5216_17_1"/>
          <p:cNvPicPr/>
          <p:nvPr/>
        </p:nvPicPr>
        <p:blipFill>
          <a:blip r:embed="rId3"/>
          <a:stretch/>
        </p:blipFill>
        <p:spPr>
          <a:xfrm>
            <a:off x="3733920" y="3124080"/>
            <a:ext cx="2685960" cy="3581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6750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process before 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ttp://oregonstate.edu/research/1old/News/04sumnews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429000"/>
            <a:ext cx="1247760" cy="119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www.teachnet.ie/dkeenahan/2004/page41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80988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NFPA_Diamond"/>
          <p:cNvPicPr/>
          <p:nvPr/>
        </p:nvPicPr>
        <p:blipFill>
          <a:blip r:embed="rId5"/>
          <a:stretch/>
        </p:blipFill>
        <p:spPr>
          <a:xfrm>
            <a:off x="4038480" y="3429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globe_needle_hold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581280"/>
            <a:ext cx="1428840" cy="92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benzen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57800" y="4952880"/>
            <a:ext cx="1057320" cy="101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goodman_night_bur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819520" y="5029200"/>
            <a:ext cx="10382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tripping-7290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96080" y="3124080"/>
            <a:ext cx="118116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gascylinders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43800" y="5486400"/>
            <a:ext cx="1305000" cy="98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corrosiv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00800" y="4876920"/>
            <a:ext cx="1000080" cy="100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5" descr="T014510A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52280" y="2971800"/>
            <a:ext cx="1238400" cy="82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6"/>
          <p:cNvSpPr/>
          <p:nvPr/>
        </p:nvSpPr>
        <p:spPr>
          <a:xfrm rot="16200000">
            <a:off x="-166680" y="16131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ngoing or existing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rdous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Hazardou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4224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109-0983_IMG"/>
          <p:cNvPicPr/>
          <p:nvPr/>
        </p:nvPicPr>
        <p:blipFill>
          <a:blip r:embed="rId1"/>
          <a:stretch/>
        </p:blipFill>
        <p:spPr>
          <a:xfrm>
            <a:off x="2057400" y="1752480"/>
            <a:ext cx="6442200" cy="483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 (OSH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point below 2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combus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 range greater than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 through friction, absorption of moisture, spontaneous chemical change, or readily burns at greater than 1/10 in.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16:02:02Z</dcterms:created>
  <dc:creator>State of Mn</dc:creator>
  <dc:description/>
  <dc:language>en-US</dc:language>
  <cp:lastModifiedBy>cabir soft</cp:lastModifiedBy>
  <dcterms:modified xsi:type="dcterms:W3CDTF">2011-02-16T06:37:01Z</dcterms:modified>
  <cp:revision>53</cp:revision>
  <dc:subject/>
  <dc:title>Title of slide show</dc:title>
</cp:coreProperties>
</file>